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EB0-5B18-484C-BBB3-578952F9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111-384B-4B1F-95A9-B6A54C7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876-B3BF-4C0E-8569-7FA5B5BB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F87-6AC7-4B55-AB12-1BE9A6F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AA27-450F-4F12-B742-07632918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ABC-36D2-482D-B442-6329BA6A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FE8-0CCF-491C-8E65-AF71751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DA9D-89B0-466B-947F-AD7F1A5D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C66-2924-4421-87E3-E2D0691C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B324-A3F1-4C37-87B3-4631DE8E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0A2C-9F1A-4245-B5DA-6C89F18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4E6-C498-4A7F-9B2B-DDA58FF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A24A-36B3-41C1-A57A-3860070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167-48DC-4AB3-9E2D-80D5451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3BE-0F83-4BA7-BB6A-BEC951C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861-FFB3-42C8-A59D-BA0AADD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FCA-700A-434B-BEA9-13E5FFFD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180-4AC0-4ED6-9BD8-2E620A9A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130-F852-4648-BE90-ED54837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EC4-803D-43C3-9051-92F061A9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7E3-3C74-4167-ACBF-1E78957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B4C-CEE4-48C6-8D70-1C135C1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40C-28D2-499D-8E46-BA50F58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D7F-46B9-4E07-9F14-B495D37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E4B-AF21-416E-941F-AC51EA9337C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6705720" y="6095880"/>
            <a:ext cx="205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© Allyn &amp; Bacon 2008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E8B5-7153-4924-97B7-E3070C6DA66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095880"/>
            <a:ext cx="205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© Allyn &amp; Bacon 2008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Is Assessment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90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athering, analyzing, and interpreting information to tell how well a student read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Do We Need To Know From Assessing Children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Emergent Reader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ffective literacy assessments focus 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cepts about print and awareness of what books are and what they are f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wareness of sounds in languag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the alphab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some wor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stening comprehens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letter-to-sound correspondence (phonics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s of Emergent Litera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oaming around the known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Do We Need to Know About Beginning Readers and Beyond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ading Level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dependent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tructional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rustration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ding levels and readab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Word Recogni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ght vocabul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coding ab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dentifying words from contex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word recognition and phon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reading fluen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vocabul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8280" y="4680"/>
            <a:ext cx="4222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7640" y="45684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d Recognition Inventory Recording Sheet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76320"/>
            <a:ext cx="600552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Comprehens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5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formal reading invento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RIs allow teachers to assess comprehension by means of meaningful text passages written at ascending levels of difficul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Comprehens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0973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easuring Attitudes and Interes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8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ding interest inventories are intended to find out an individual student’s interests and preferences, to help teachers and librarians match them up with books and learning experiences they will enjoy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y Do We Assess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guide instru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reading le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children’s readiness or prior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te children’s strengths and areas of ne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children’s literacy strateg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monitor the success of instructional appro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d out if a teaching approach or set of materials is working for a chi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trategies seem best suited to whole groups of stud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67044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Spelling Knowledge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0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words from spelling textboo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spelling qualitativel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6840" y="3449520"/>
            <a:ext cx="892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Principles of Classroom Assessmen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Assessment should inform and improve teach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Assessment procedures should help teachers discover what children can do, not what they cannot d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Every assessment procedure should have a specific purpos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lassroom assessment should provide insight into the process of read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. Assessment procedures should help identify zones of proximal developmen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. Assessment strategies should not supplant instruc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7. The only true value and competent assessment is individual assessmen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ment-teaching Proces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7472"/>
          <a:stretch/>
        </p:blipFill>
        <p:spPr>
          <a:xfrm>
            <a:off x="1523880" y="1752480"/>
            <a:ext cx="589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give feedback to students and their par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w students what they are doing we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students set goals for better performance and monitor their progress toward meeting those go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parents understand how their children are performing in learning to read and what parents can do to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make decisions on the placement of students in special instructional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sure all students are meeting state standards for lear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ssess ourselves as teachers or teachers-to-b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57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y Do We Assess? (cont’d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pproaches To Assessmen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rm-Referenced T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s-Based T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rriculum-Based Measurement (CB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l Reading Invento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ading Miscue Invento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Reco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idwa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tfol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br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876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ifferent Assessments for Different Phases of Instruc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achers use different kinds of assessments for different purposes at different points of the year. “Reading First” schools require four different types of assessment during four points during the yea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nostic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comes-based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erms Used In Testing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aw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rcentile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nine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rade equivalent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Validity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alidity refers to the extent that a tests measure what they claim to measur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ent valid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dictive valid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liability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as to do with the likelihood that the results of the test are stable and dependabl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st-retest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lit-half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-rater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4:25:49Z</dcterms:created>
  <dc:creator>makinster</dc:creator>
  <dc:description/>
  <dc:language>en-US</dc:language>
  <cp:lastModifiedBy>ruth</cp:lastModifiedBy>
  <dcterms:modified xsi:type="dcterms:W3CDTF">2009-05-14T00:13:23Z</dcterms:modified>
  <cp:revision>38</cp:revision>
  <dc:subject/>
  <dc:title>Slide 1</dc:title>
</cp:coreProperties>
</file>